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6D08-7E35-49C6-867D-21D8C15A1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91B0-FA5B-4F51-B23F-6C35E7D3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A098-6768-434E-B0D1-7199B77D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1ADC-39A2-4127-83F7-5602A9FB4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E87B-A645-4256-A131-961D087C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7D69-7FE5-4325-865A-C4C0EDD8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A26D-FE94-4EE4-BFD8-4F154286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78DB-3C01-41EA-8225-55EAB802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32C9-525D-42AC-8DD5-82DC7088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8E42-11C8-416C-AE66-D3630FC2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784E-879C-49FE-8972-56DADCDA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E3E8-02BB-44CA-9CFA-EF8FFA21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45AE52-F0AE-40C7-8A77-2F5E38916E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487FBD-19A2-4E48-A9A3-AECFADCD2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sbalakrishnan.wikispaces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gital Learning in the classro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ithili Balakrishn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ugust 8,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k to my wikisp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msbalakrishnan.wikispaces.com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7:14:31Z</dcterms:created>
  <dc:creator>College of Education</dc:creator>
  <dc:description/>
  <dc:language>en-US</dc:language>
  <cp:lastModifiedBy>College of Education</cp:lastModifiedBy>
  <dcterms:modified xsi:type="dcterms:W3CDTF">2009-08-08T19:03:34Z</dcterms:modified>
  <cp:revision>5</cp:revision>
  <dc:subject/>
  <dc:title>Digital Learning</dc:title>
</cp:coreProperties>
</file>